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714-14B8-4055-81FF-92E9EACF73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52A-3015-4E54-A44A-09DEB8D5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55F-FDE7-4CBA-96C4-29B9824930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EA40-2377-4FD1-94C6-7BFABAEC06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0D9-44B7-4D98-908A-E5724E84A9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E207-3F77-404F-B02F-9B8A318AC8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5965-E1CE-4CDF-AE8D-3E06423689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0DB-D80C-4423-81FD-FF1AC6B147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6D2-45D8-4941-88AB-2C8B2DCB2E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14DA-5B18-4FFF-88EC-130824F1CC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134-7EBD-49C9-A7FA-B7FB954AA7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BA79-90D6-4CCA-8AC7-E199822836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3A2-B7D9-4E3B-AABB-FFC5302572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97DF-1357-455C-AAEA-0B7EFBA60E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5C1A-9D1B-4238-9E90-28937AFAC6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0C31-0395-4753-BD1D-829D86F5F8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3F7F-7895-41DE-A0CB-4B70A95792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3E1A-14BC-43A1-9E5E-B968667069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9EDA-CDF1-47A1-815B-880FFBC23E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CA3-3A5D-4DE8-B229-2CEDC382B2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969A-66D1-49EF-9675-B91C42D22C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6386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2133720" y="2406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653080" y="2395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057400" y="241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55198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4100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676520" y="2419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5715000" y="2405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1225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53164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182880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5767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2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5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8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7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0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3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04T00:16:15Z</dcterms:modified>
  <cp:revision>93</cp:revision>
  <dc:subject/>
  <dc:title>Allez, viens! – Level 2</dc:title>
</cp:coreProperties>
</file>